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318-183E-4478-BF2F-22DB3A51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687-5093-4273-9AE8-389B8ABD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B2A-0BF7-43F3-B5C4-72BF360C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D86-ED3D-4A1A-A2CF-BCD75D50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5D1-A341-4402-9BA6-B909172F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BFA-230D-4F09-BC78-C2D3597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E19-C78A-442E-B554-1BAA4AD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B6D-8F94-4127-84ED-33173F28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2ED-A2DA-4D6C-B7CC-7055861B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B18-6AF6-4809-9385-2BB7E0E7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D17-EF69-4F35-9B7D-659AB739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E0E-B052-465B-B6A5-42E978DA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455D-655F-439A-9E53-7250A53AF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60" t="5969" r="11661" b="3398"/>
          <a:stretch/>
        </p:blipFill>
        <p:spPr>
          <a:xfrm>
            <a:off x="-7920" y="47520"/>
            <a:ext cx="91440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432" t="5956" r="9174" b="3522"/>
          <a:stretch/>
        </p:blipFill>
        <p:spPr>
          <a:xfrm>
            <a:off x="0" y="4752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17:26Z</dcterms:created>
  <dc:creator>Luis</dc:creator>
  <dc:description/>
  <dc:language>en-US</dc:language>
  <cp:lastModifiedBy>Luis</cp:lastModifiedBy>
  <dcterms:modified xsi:type="dcterms:W3CDTF">2008-04-28T14:22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